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26C-2437-4788-A9BD-4042D3B3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D0C-7777-4DC0-8B51-E9E6C15E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F59-C5D5-4CCE-9BD6-8AB554B0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EA1-58D8-43E1-9A9F-B314F1D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F0A89-33D0-4E76-A719-E4959A93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12B9-86ED-4314-A1B0-FB87022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6B90-DEA3-4EEE-8E73-795B28C3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BC52-416A-4A29-9832-2BF226B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23F38-FB9A-4B7E-B053-A2D01CF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54A3-98CE-4EA6-9168-F59FB84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4D959-A4E3-4088-B945-CE3FED2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9B0-2CB6-4CF8-9C13-FF48FCE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4E889-C58B-410A-9365-43740E6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B9236-017A-4667-A609-F540DE2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1C940-FE3E-45D9-BA62-A0560C66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78C0-B5F9-4D90-8E6E-456C36A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6D7B-5CA2-4B07-AFBE-E8B45B29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F0A-0FCA-40A5-AFC3-BD7B5919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633-C587-4C2A-A9DB-26399EFB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BB5-75F3-44AB-A475-632E6AA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539-DEAB-4D09-A449-AC9938F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142-4684-4EC0-95A7-93E90AC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22D-FB93-479F-8096-E5D610C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085-4B4C-4A18-9622-3734991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102-215F-4B59-B789-0283EF501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CE0-A3B1-4358-870E-0D2FB6C08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990720" y="-60948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Devin Delca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grande lujoso man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458964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pati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p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472464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incredible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gar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4952880" cy="336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s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oderno co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com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18148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lujoso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4324320" cy="2884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3579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5:43:00Z</dcterms:created>
  <dc:creator>delcampodev</dc:creator>
  <dc:description/>
  <dc:language>en-US</dc:language>
  <cp:lastModifiedBy>delcampodev</cp:lastModifiedBy>
  <dcterms:modified xsi:type="dcterms:W3CDTF">2011-11-01T17:25:32Z</dcterms:modified>
  <cp:revision>5</cp:revision>
  <dc:subject/>
  <dc:title>La mansión</dc:title>
</cp:coreProperties>
</file>